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6ABC-ECA4-47E2-A2DB-F4EBB11EA6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Understanding Chemical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Lesson: Bonds &amp; Energy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: Bonds &amp;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NERGY LEVEL DIAGRAM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We can show the energy transfers in reactions on an energy level diagram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These show us the energy stored in the reactants compared to the energy stored in the product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LEVEL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show the energy transfers in reactions on an energy level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how us the energy stored in the reactants compared to the energy stored in the pro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Exothermic energy level diagra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othermic energy level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xothermic energy level diagra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∆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H (‘delta H’) is the symbol for the ‘change in energy’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In an exothermic reaction the products have less energy than the reactant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∆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H is negative for an exothermic reaction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thermic energy level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(‘delta H’) is the symbol for the ‘change in energy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exothermic reaction the products have less energy than the react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is negative for an exothermic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Endothermic energy level diagra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thermic energy level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ndoothermic energy level diagra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In an endothermic reaction the products have more energy than the reactant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∆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H is positive for an endothermic reaction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othermic energy level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endothermic reaction the products have more energy than the react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is positive for an endothermic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Making and breaking bond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We have seen how bonds are formed (both ionic and covalent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Do you think energy is needed to break bonds?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and breaking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seen how bonds are formed (both ionic and coval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think energy is needed to break b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Breaking bonds requires energy. It is endothermic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ing bonds requires energy. It is end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Breaking bonds requires energy. It is endothermic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Making new bonds gives out energy. It is exothermic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ing bonds requires energy. It is end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new bonds gives out energy. It is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Basic Revision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For a chemical reaction to occur, bonds must be both formed and broken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Fe  +  CuSO4               Cu    +  FeSO4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Re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chemical reaction to occur, bonds must be both formed and bro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  +  CuSO4               Cu    +  FeS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Basic Revision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Chemical reactions always involve energy change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Making and breaking bonds involves energy change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Re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always involve energy chan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and breaking bonds involves energ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xothermic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These reactions give out heat energy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Combustion is an exothermic reaction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thermic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reactions give out heat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ustion is an exothermic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ndothermic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These reactions take in heat energy from their surrounding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These cause temperatures to fall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thermic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reactions take in heat energy from their surround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ause temperatures to f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Use the apparatus as shown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Work with 20ml of each substance in turn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Copy the results table before you star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apparatus as sh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with 20ml of each substance in 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the results table before you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RISK ASSESSMEN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You will be using acids so wear safety goggle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Wipe up spills immediately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Replace stopper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Do not put solids down the sink – use the bowl at the front!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be using acids so wear safety gogg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pe up spills immedi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 stop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put solids down the sink – use the bowl at the fro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5F29-6504-4D0A-A763-82D0F5144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0E2A-E1EF-49D0-86B7-49078E5D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9B58-77F5-4E6A-B2C6-C6444059B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BFD5-FA50-48E3-87F0-A2B5D298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B8F9-5093-4320-8103-220779752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C9F4-E501-4F8D-97AB-B21515EB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9D44-FEA0-4B7D-BF0F-EE688EC0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FE85-D568-4F44-999C-F338C63A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33E6-A2EB-4F32-B8C0-A2899CC6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38BC-D44D-4CE9-A00D-D6E30379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9087-4BB1-4D1D-8499-3FFF7945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006C-37F0-44ED-828D-11F24733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D2EA-8603-4F2F-AF57-FC7BF1A3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3B66-F30C-4F45-951E-C76421CF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478F-D063-48C8-AD56-28728576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7C05-CD5D-497C-8584-A4280F7E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DA91-7323-4FA4-A36E-69CDB26C5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4C8F-2720-434B-9C19-64BFD033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4504-4577-4833-94FB-A4901A0D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2478-A1DA-4FFB-8AD2-C0E81C97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FC1E-5122-4EF3-9602-114A2191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67A1-917D-4384-ABC6-079F65AF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9DDB-744C-4312-A6E5-D4D4220B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415F-BAC7-4579-BCEA-AACE0F6A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BEF8-29D9-49D1-BE01-C44166FC8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3572-A89B-4464-9912-48EDB100B943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200" spc="-1" strike="noStrike">
                <a:solidFill>
                  <a:srgbClr val="006666"/>
                </a:solidFill>
                <a:latin typeface="Verdana"/>
              </a:rPr>
              <a:t>Understanding Chemical Reactions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Verdana"/>
              </a:rPr>
              <a:t>Lesson: Bonds &amp; Energ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ENERGY LEVEL DIAGRAM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We can show the energy transfers in reactions on an </a:t>
            </a: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energy level diagram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These show us the energy stored in the reactants compared to the energy stored in the product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Verdana"/>
              </a:rPr>
              <a:t>Exothermic energy level diagram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6" name="Picture 9" descr="exo"/>
          <p:cNvPicPr/>
          <p:nvPr/>
        </p:nvPicPr>
        <p:blipFill>
          <a:blip r:embed="rId1"/>
          <a:stretch/>
        </p:blipFill>
        <p:spPr>
          <a:xfrm>
            <a:off x="250920" y="1484280"/>
            <a:ext cx="8497800" cy="49690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Verdana"/>
              </a:rPr>
              <a:t>Exothermic energy level diagram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∆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 (‘delta H’) is the symbol for the ‘change in energy’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Verdana"/>
              </a:rPr>
              <a:t>In an exothermic reaction the products have </a:t>
            </a:r>
            <a:r>
              <a:rPr b="1" lang="en-GB" sz="2400" spc="-1" strike="noStrike">
                <a:solidFill>
                  <a:srgbClr val="006699"/>
                </a:solidFill>
                <a:latin typeface="Verdana"/>
              </a:rPr>
              <a:t>less</a:t>
            </a:r>
            <a:r>
              <a:rPr b="0" lang="en-GB" sz="2400" spc="-1" strike="noStrike">
                <a:solidFill>
                  <a:srgbClr val="006699"/>
                </a:solidFill>
                <a:latin typeface="Verdana"/>
              </a:rPr>
              <a:t> energy than the reactant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∆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 is negative for an exothermic reaction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9" name="Picture 7" descr="exo"/>
          <p:cNvPicPr/>
          <p:nvPr/>
        </p:nvPicPr>
        <p:blipFill>
          <a:blip r:embed="rId1"/>
          <a:stretch/>
        </p:blipFill>
        <p:spPr>
          <a:xfrm>
            <a:off x="250920" y="1628640"/>
            <a:ext cx="4105080" cy="43214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Verdana"/>
              </a:rPr>
              <a:t>Endothermic energy level diagram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1" name="Picture 5" descr="endo"/>
          <p:cNvPicPr/>
          <p:nvPr/>
        </p:nvPicPr>
        <p:blipFill>
          <a:blip r:embed="rId1"/>
          <a:stretch/>
        </p:blipFill>
        <p:spPr>
          <a:xfrm>
            <a:off x="468360" y="1700280"/>
            <a:ext cx="8207280" cy="46814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Verdana"/>
              </a:rPr>
              <a:t>Endoothermic energy level diagram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Verdana"/>
              </a:rPr>
              <a:t>In an endothermic reaction the products have </a:t>
            </a:r>
            <a:r>
              <a:rPr b="1" lang="en-GB" sz="2800" spc="-1" strike="noStrike">
                <a:solidFill>
                  <a:srgbClr val="006699"/>
                </a:solidFill>
                <a:latin typeface="Verdana"/>
              </a:rPr>
              <a:t>more</a:t>
            </a:r>
            <a:r>
              <a:rPr b="0" lang="en-GB" sz="2800" spc="-1" strike="noStrike">
                <a:solidFill>
                  <a:srgbClr val="006699"/>
                </a:solidFill>
                <a:latin typeface="Verdana"/>
              </a:rPr>
              <a:t> energy than the reactant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∆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H is positive for an endothermic reactio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4" name="Picture 6" descr="endo"/>
          <p:cNvPicPr/>
          <p:nvPr/>
        </p:nvPicPr>
        <p:blipFill>
          <a:blip r:embed="rId1"/>
          <a:stretch/>
        </p:blipFill>
        <p:spPr>
          <a:xfrm>
            <a:off x="324000" y="1628640"/>
            <a:ext cx="3887640" cy="4392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Making and breaking bond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We have seen how bonds are formed (both ionic and covalent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Do you think energy is needed to break bonds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5" descr="bonds"/>
          <p:cNvPicPr/>
          <p:nvPr/>
        </p:nvPicPr>
        <p:blipFill>
          <a:blip r:embed="rId1"/>
          <a:stretch/>
        </p:blipFill>
        <p:spPr>
          <a:xfrm>
            <a:off x="1619280" y="0"/>
            <a:ext cx="5761080" cy="6597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Verdana"/>
              </a:rPr>
              <a:t>Breaking bonds requires energy. It is endothermic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Verdana"/>
              </a:rPr>
              <a:t>Breaking bonds requires energy. It is endothermic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Verdana"/>
              </a:rPr>
              <a:t>Making new bonds gives out energy. It is exothermic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bonds2"/>
          <p:cNvPicPr/>
          <p:nvPr/>
        </p:nvPicPr>
        <p:blipFill>
          <a:blip r:embed="rId1"/>
          <a:stretch/>
        </p:blipFill>
        <p:spPr>
          <a:xfrm>
            <a:off x="179280" y="260280"/>
            <a:ext cx="8496360" cy="63374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Verdana"/>
              </a:rPr>
              <a:t>Basic Revis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For a chemical reaction to occur, bonds must be both formed and broke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Fe  +  CuSO</a:t>
            </a:r>
            <a:r>
              <a:rPr b="0" lang="en-GB" sz="3200" spc="-1" strike="noStrike" baseline="-25000">
                <a:solidFill>
                  <a:srgbClr val="ff0000"/>
                </a:solidFill>
                <a:latin typeface="Verdana"/>
              </a:rPr>
              <a:t>4               </a:t>
            </a: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Cu    +  FeSO</a:t>
            </a:r>
            <a:r>
              <a:rPr b="0" lang="en-GB" sz="3200" spc="-1" strike="noStrike" baseline="-25000">
                <a:solidFill>
                  <a:srgbClr val="ff00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3635280" y="4076640"/>
            <a:ext cx="122400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Verdana"/>
              </a:rPr>
              <a:t>Basic Revis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Chemical reactions always involve energy chang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Making and breaking bonds involves energy chang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ENERGY AND CHEMICAL REACTION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6699"/>
                </a:solidFill>
                <a:uFillTx/>
                <a:latin typeface="Verdana"/>
              </a:rPr>
              <a:t>Exothermic reaction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These reactions give out heat energ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Combustion is an exothermic react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ENERGY AND CHEMICAL REACTION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6699"/>
                </a:solidFill>
                <a:uFillTx/>
                <a:latin typeface="Verdana"/>
              </a:rPr>
              <a:t>Endothermic reaction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These reactions take in heat energy from their surrounding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These cause temperatures to fall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temp1"/>
          <p:cNvPicPr/>
          <p:nvPr/>
        </p:nvPicPr>
        <p:blipFill>
          <a:blip r:embed="rId1"/>
          <a:stretch/>
        </p:blipFill>
        <p:spPr>
          <a:xfrm>
            <a:off x="2124000" y="0"/>
            <a:ext cx="5184720" cy="6858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ENERGY AND CHEMICAL REACTION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Use the apparatus as show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Work with 20ml of each substance in tur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Copy the results table before you star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Picture 7" descr="temp2"/>
          <p:cNvPicPr/>
          <p:nvPr/>
        </p:nvPicPr>
        <p:blipFill>
          <a:blip r:embed="rId1"/>
          <a:stretch/>
        </p:blipFill>
        <p:spPr>
          <a:xfrm>
            <a:off x="324000" y="1628640"/>
            <a:ext cx="3960720" cy="4608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Verdana"/>
              </a:rPr>
              <a:t>RISK ASSESSMEN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You will be using acids so wear safety goggl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Wipe up spills immediatel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Replace stopper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Do not put solids down the sink – use the bowl at the front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ENERGY AND CHEMICAL REACTION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57200" y="1600200"/>
          <a:ext cx="8229600" cy="5072040"/>
        </p:xfrm>
        <a:graphic>
          <a:graphicData uri="http://schemas.openxmlformats.org/drawingml/2006/table">
            <a:tbl>
              <a:tblPr/>
              <a:tblGrid>
                <a:gridCol w="3178080"/>
                <a:gridCol w="1513080"/>
                <a:gridCol w="1481040"/>
                <a:gridCol w="20574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Reaction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temp. before mixing (</a:t>
                      </a:r>
                      <a:r>
                        <a:rPr b="1" lang="en-GB" sz="1800" spc="-1" strike="noStrike" baseline="30000">
                          <a:solidFill>
                            <a:srgbClr val="006699"/>
                          </a:solidFill>
                          <a:latin typeface="Verdana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C)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temp. after mixing (</a:t>
                      </a:r>
                      <a:r>
                        <a:rPr b="1" lang="en-GB" sz="1800" spc="-1" strike="noStrike" baseline="30000">
                          <a:solidFill>
                            <a:srgbClr val="006699"/>
                          </a:solidFill>
                          <a:latin typeface="Verdana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C)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Exothermic or Endothermic?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odium hydroxide sol’n + hydrochloric acid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odium hydrogen carbonate sol’n + citric acid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copper sulphate sol’n + magnesium powder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ulphuric acid + magnesium ribbon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barium chloride + sodium sulphate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18:50:28Z</dcterms:created>
  <dc:creator>Keith Hicks</dc:creator>
  <dc:description/>
  <dc:language>en-US</dc:language>
  <cp:lastModifiedBy>LEGION</cp:lastModifiedBy>
  <dcterms:modified xsi:type="dcterms:W3CDTF">2015-09-04T10:11:37Z</dcterms:modified>
  <cp:revision>17</cp:revision>
  <dc:subject/>
  <dc:title>Understanding Chemical Reactions</dc:title>
</cp:coreProperties>
</file>